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7C2-2BD3-40A3-8608-747E12B1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6E7-2500-4A9C-B3A9-16D27CEF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B7E-F943-46A7-B3BE-E252B2DE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955-6ABC-47CC-A8D1-671D43B7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B7F-D5D2-41EE-A46D-8B654C43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479-789A-472F-A7D1-AAAEF9EE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E06-3219-4FA4-A562-60FFE9C5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E62-834C-4B41-8B1B-BD919441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B19-EBB9-4E46-AC61-BF08A4ED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956-06E6-4168-8630-D2CF277A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CF9-7D39-4497-AE69-0069B5DB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C1C-014D-409C-9CF6-5BCB466E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9EC8-DF08-4DE8-BF65-E1428BD55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862760" cy="203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0880" y="31608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40528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4232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65800" cy="274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0200" y="4202280"/>
            <a:ext cx="62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Operations –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erations that undo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65972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1337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2362320"/>
            <a:ext cx="533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75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3280" y="5446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662360" cy="507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0154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2296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218440" cy="1231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14600" y="20574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057400"/>
            <a:ext cx="685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48720" y="20574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2:42:48Z</dcterms:created>
  <dc:creator>Graham</dc:creator>
  <dc:description/>
  <dc:language>en-US</dc:language>
  <cp:lastModifiedBy>Graham</cp:lastModifiedBy>
  <dcterms:modified xsi:type="dcterms:W3CDTF">2011-10-22T23:31:07Z</dcterms:modified>
  <cp:revision>2</cp:revision>
  <dc:subject/>
  <dc:title>Slide 1</dc:title>
</cp:coreProperties>
</file>